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1834-2CCA-48EE-B800-621F7B61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9889-6C59-4FDF-AE28-F997D954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D9FD-4649-47B1-92CE-53E2AC62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A3D4-C283-4D15-A444-2698E0DC9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1FB1-0C3A-418D-890D-55719C35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F3E2-876A-4B3B-B50D-36E4885D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2F20-470C-4AB8-AC0C-4A019C63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316F-812A-4E8B-8C2E-3351FEDF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9E21-8FB8-44C3-AB40-612E0B1A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B33A-0F97-4E6B-B33E-E8B6DE96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4346-BF26-4D7F-9440-0AF7BED9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6E95-6B7A-4EFD-AC10-ABFD7408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7161-542B-46C9-A237-EAB9AB84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B458-1D51-4E18-890E-8B8BCCD2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B3AE-68A7-4187-9362-53E2A9F8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B444-8006-4B51-BED1-FF7A07BE3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4C65-828D-409B-AAB9-FC39BFA5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7F98-6ABD-4F76-8C50-DF16DFC3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571A-443D-4CE4-AF66-5F0972B0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046A-22E3-4AEF-BB1B-7405D2E5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8185-E383-4517-8162-CBB565FF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2855-9D8A-4F53-8F3A-31DF4DDD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EA69-14A8-4C17-B48F-8A06C526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0DEF-844D-482F-8903-2F941A09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37B1-00D8-4EF8-B8EC-B4EC972E6F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BEFA-1BB7-4298-B094-9241A3C96E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BA Programming for Exc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view Excel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ce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ing Specific Ce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view Functions for Exce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stom Men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Look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5562360" cy="484524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3429000" y="3505320"/>
            <a:ext cx="5181480" cy="2590560"/>
            <a:chOff x="3429000" y="3505320"/>
            <a:chExt cx="5181480" cy="2590560"/>
          </a:xfrm>
        </p:grpSpPr>
        <p:sp>
          <p:nvSpPr>
            <p:cNvPr id="121" name=""/>
            <p:cNvSpPr/>
            <p:nvPr/>
          </p:nvSpPr>
          <p:spPr>
            <a:xfrm>
              <a:off x="6095880" y="4114800"/>
              <a:ext cx="251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alue to Look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803920" y="3505320"/>
              <a:ext cx="673200" cy="901440"/>
            </a:xfrm>
            <a:custGeom>
              <a:avLst/>
              <a:gdLst/>
              <a:ahLst/>
              <a:rect l="l" t="t" r="r" b="b"/>
              <a:pathLst>
                <a:path w="424" h="568">
                  <a:moveTo>
                    <a:pt x="184" y="528"/>
                  </a:moveTo>
                  <a:cubicBezTo>
                    <a:pt x="92" y="548"/>
                    <a:pt x="0" y="568"/>
                    <a:pt x="40" y="480"/>
                  </a:cubicBezTo>
                  <a:cubicBezTo>
                    <a:pt x="80" y="392"/>
                    <a:pt x="352" y="88"/>
                    <a:pt x="424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29000" y="5867280"/>
              <a:ext cx="914400" cy="2286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429000" y="3505320"/>
            <a:ext cx="5029200" cy="2133360"/>
            <a:chOff x="3429000" y="3505320"/>
            <a:chExt cx="5029200" cy="2133360"/>
          </a:xfrm>
        </p:grpSpPr>
        <p:grpSp>
          <p:nvGrpSpPr>
            <p:cNvPr id="125" name=""/>
            <p:cNvGrpSpPr/>
            <p:nvPr/>
          </p:nvGrpSpPr>
          <p:grpSpPr>
            <a:xfrm>
              <a:off x="5715000" y="3505320"/>
              <a:ext cx="2743200" cy="1678680"/>
              <a:chOff x="5715000" y="3505320"/>
              <a:chExt cx="2743200" cy="1678680"/>
            </a:xfrm>
          </p:grpSpPr>
          <p:sp>
            <p:nvSpPr>
              <p:cNvPr id="126" name=""/>
              <p:cNvSpPr/>
              <p:nvPr/>
            </p:nvSpPr>
            <p:spPr>
              <a:xfrm>
                <a:off x="6172200" y="4724280"/>
                <a:ext cx="228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earch rang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715000" y="3505320"/>
                <a:ext cx="1295280" cy="1536480"/>
              </a:xfrm>
              <a:custGeom>
                <a:avLst/>
                <a:gdLst/>
                <a:ahLst/>
                <a:rect l="l" t="t" r="r" b="b"/>
                <a:pathLst>
                  <a:path w="816" h="968">
                    <a:moveTo>
                      <a:pt x="240" y="912"/>
                    </a:moveTo>
                    <a:cubicBezTo>
                      <a:pt x="120" y="940"/>
                      <a:pt x="0" y="968"/>
                      <a:pt x="96" y="816"/>
                    </a:cubicBezTo>
                    <a:cubicBezTo>
                      <a:pt x="192" y="664"/>
                      <a:pt x="504" y="332"/>
                      <a:pt x="816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3429000" y="3962520"/>
              <a:ext cx="2666880" cy="16761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181480" y="3505320"/>
            <a:ext cx="3276720" cy="2654280"/>
            <a:chOff x="5181480" y="3505320"/>
            <a:chExt cx="3276720" cy="2654280"/>
          </a:xfrm>
        </p:grpSpPr>
        <p:grpSp>
          <p:nvGrpSpPr>
            <p:cNvPr id="130" name=""/>
            <p:cNvGrpSpPr/>
            <p:nvPr/>
          </p:nvGrpSpPr>
          <p:grpSpPr>
            <a:xfrm>
              <a:off x="5829480" y="3505320"/>
              <a:ext cx="2628720" cy="2654280"/>
              <a:chOff x="5829480" y="3505320"/>
              <a:chExt cx="2628720" cy="2654280"/>
            </a:xfrm>
          </p:grpSpPr>
          <p:sp>
            <p:nvSpPr>
              <p:cNvPr id="131" name=""/>
              <p:cNvSpPr/>
              <p:nvPr/>
            </p:nvSpPr>
            <p:spPr>
              <a:xfrm>
                <a:off x="6248520" y="5334120"/>
                <a:ext cx="2209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Return colum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829480" y="3505320"/>
                <a:ext cx="1562040" cy="2057400"/>
              </a:xfrm>
              <a:custGeom>
                <a:avLst/>
                <a:gdLst/>
                <a:ahLst/>
                <a:rect l="l" t="t" r="r" b="b"/>
                <a:pathLst>
                  <a:path w="984" h="1296">
                    <a:moveTo>
                      <a:pt x="264" y="1296"/>
                    </a:moveTo>
                    <a:cubicBezTo>
                      <a:pt x="132" y="1284"/>
                      <a:pt x="0" y="1272"/>
                      <a:pt x="120" y="1056"/>
                    </a:cubicBezTo>
                    <a:cubicBezTo>
                      <a:pt x="240" y="840"/>
                      <a:pt x="612" y="420"/>
                      <a:pt x="984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5181480" y="3962520"/>
              <a:ext cx="914400" cy="16761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28600" y="4343040"/>
            <a:ext cx="3352680" cy="1524240"/>
            <a:chOff x="228600" y="4343040"/>
            <a:chExt cx="3352680" cy="1524240"/>
          </a:xfrm>
        </p:grpSpPr>
        <p:sp>
          <p:nvSpPr>
            <p:cNvPr id="135" name=""/>
            <p:cNvSpPr/>
            <p:nvPr/>
          </p:nvSpPr>
          <p:spPr>
            <a:xfrm>
              <a:off x="228600" y="4343400"/>
              <a:ext cx="213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ue: find closest mat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2209680" y="4343040"/>
              <a:ext cx="121932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09680" y="4648320"/>
              <a:ext cx="137160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readsheet Functions in VB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.WorkSheetFunction.Name(Argum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pplication.WorksheetFunc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Today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addresses must appear as r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pplication.WorkSheetFunc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IsNumber(Range(“B3”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orksheet functions have a VBA equival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must be used in assignment stat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ns =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pplication.WorkSheetFunc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_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Lookup(Range(“A10”), Range(“A2:C8”), 3, Tru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Out = Range(“A10”).formula &amp; “ lives in “ v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sg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d(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BA Function – not available on she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ression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ression must define a range on the spreadshe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urns Range location of first m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ression range need not be sorte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no match is found, it returns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d( )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2133720"/>
            <a:ext cx="792468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ange(“C10”).Value = 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ange(“A2:A8”).Find(“Gene”).Offset(0,2).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029200" y="3244680"/>
            <a:ext cx="3886200" cy="3384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62120" y="3529080"/>
            <a:ext cx="411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s in cells A2:A8 for “Gene”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returns [A5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45529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fsets 2 cells right from [A5]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returns [C5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76240" y="5477040"/>
            <a:ext cx="4114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nds the value in [C5] = 5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6039000"/>
            <a:ext cx="4114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uts the value 58 in [C10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13840" y="2114640"/>
            <a:ext cx="3638880" cy="4138920"/>
            <a:chOff x="213840" y="2114640"/>
            <a:chExt cx="3638880" cy="4138920"/>
          </a:xfrm>
        </p:grpSpPr>
        <p:sp>
          <p:nvSpPr>
            <p:cNvPr id="150" name=""/>
            <p:cNvSpPr/>
            <p:nvPr/>
          </p:nvSpPr>
          <p:spPr>
            <a:xfrm>
              <a:off x="876240" y="2114640"/>
              <a:ext cx="2976480" cy="476280"/>
            </a:xfrm>
            <a:prstGeom prst="borderCallout2">
              <a:avLst>
                <a:gd name="adj1" fmla="val 18750"/>
                <a:gd name="adj2" fmla="val -8333"/>
                <a:gd name="adj3" fmla="val 24000"/>
                <a:gd name="adj4" fmla="val -17601"/>
                <a:gd name="adj5" fmla="val 867000"/>
                <a:gd name="adj6" fmla="val -22240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" name=""/>
            <p:cNvCxnSpPr>
              <a:stCxn id="150" idx="0"/>
              <a:endCxn id="148" idx="1"/>
            </p:cNvCxnSpPr>
            <p:nvPr/>
          </p:nvCxnSpPr>
          <p:spPr>
            <a:xfrm>
              <a:off x="213840" y="6252840"/>
              <a:ext cx="700920" cy="108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</p:grpSp>
      <p:grpSp>
        <p:nvGrpSpPr>
          <p:cNvPr id="152" name=""/>
          <p:cNvGrpSpPr/>
          <p:nvPr/>
        </p:nvGrpSpPr>
        <p:grpSpPr>
          <a:xfrm>
            <a:off x="552240" y="2666880"/>
            <a:ext cx="6610680" cy="3024720"/>
            <a:chOff x="552240" y="2666880"/>
            <a:chExt cx="6610680" cy="3024720"/>
          </a:xfrm>
        </p:grpSpPr>
        <p:sp>
          <p:nvSpPr>
            <p:cNvPr id="153" name=""/>
            <p:cNvSpPr/>
            <p:nvPr/>
          </p:nvSpPr>
          <p:spPr>
            <a:xfrm>
              <a:off x="1143000" y="2666880"/>
              <a:ext cx="6019920" cy="381240"/>
            </a:xfrm>
            <a:prstGeom prst="borderCallout2">
              <a:avLst>
                <a:gd name="adj1" fmla="val 18750"/>
                <a:gd name="adj2" fmla="val -8333"/>
                <a:gd name="adj3" fmla="val 30000"/>
                <a:gd name="adj4" fmla="val -7833"/>
                <a:gd name="adj5" fmla="val 791250"/>
                <a:gd name="adj6" fmla="val -9810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4" name=""/>
            <p:cNvCxnSpPr>
              <a:stCxn id="153" idx="0"/>
              <a:endCxn id="147" idx="1"/>
            </p:cNvCxnSpPr>
            <p:nvPr/>
          </p:nvCxnSpPr>
          <p:spPr>
            <a:xfrm>
              <a:off x="552240" y="5690880"/>
              <a:ext cx="324360" cy="108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</p:grpSp>
      <p:grpSp>
        <p:nvGrpSpPr>
          <p:cNvPr id="155" name=""/>
          <p:cNvGrpSpPr/>
          <p:nvPr/>
        </p:nvGrpSpPr>
        <p:grpSpPr>
          <a:xfrm>
            <a:off x="437760" y="2666880"/>
            <a:ext cx="5886720" cy="2267280"/>
            <a:chOff x="437760" y="2666880"/>
            <a:chExt cx="5886720" cy="2267280"/>
          </a:xfrm>
        </p:grpSpPr>
        <p:sp>
          <p:nvSpPr>
            <p:cNvPr id="156" name=""/>
            <p:cNvSpPr/>
            <p:nvPr/>
          </p:nvSpPr>
          <p:spPr>
            <a:xfrm>
              <a:off x="1143000" y="2666880"/>
              <a:ext cx="5181480" cy="381240"/>
            </a:xfrm>
            <a:prstGeom prst="borderCallout2">
              <a:avLst>
                <a:gd name="adj1" fmla="val 18750"/>
                <a:gd name="adj2" fmla="val -8333"/>
                <a:gd name="adj3" fmla="val 30000"/>
                <a:gd name="adj4" fmla="val -12592"/>
                <a:gd name="adj5" fmla="val 592500"/>
                <a:gd name="adj6" fmla="val -13601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7" name=""/>
            <p:cNvCxnSpPr>
              <a:stCxn id="156" idx="0"/>
              <a:endCxn id="146" idx="1"/>
            </p:cNvCxnSpPr>
            <p:nvPr/>
          </p:nvCxnSpPr>
          <p:spPr>
            <a:xfrm>
              <a:off x="437760" y="4933440"/>
              <a:ext cx="400680" cy="108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</p:grpSp>
      <p:grpSp>
        <p:nvGrpSpPr>
          <p:cNvPr id="158" name=""/>
          <p:cNvGrpSpPr/>
          <p:nvPr/>
        </p:nvGrpSpPr>
        <p:grpSpPr>
          <a:xfrm>
            <a:off x="428760" y="2666880"/>
            <a:ext cx="4524120" cy="1243440"/>
            <a:chOff x="428760" y="2666880"/>
            <a:chExt cx="4524120" cy="1243440"/>
          </a:xfrm>
        </p:grpSpPr>
        <p:sp>
          <p:nvSpPr>
            <p:cNvPr id="159" name=""/>
            <p:cNvSpPr/>
            <p:nvPr/>
          </p:nvSpPr>
          <p:spPr>
            <a:xfrm>
              <a:off x="1143000" y="2666880"/>
              <a:ext cx="3809880" cy="381240"/>
            </a:xfrm>
            <a:prstGeom prst="borderCallout2">
              <a:avLst>
                <a:gd name="adj1" fmla="val 18750"/>
                <a:gd name="adj2" fmla="val -8333"/>
                <a:gd name="adj3" fmla="val 30000"/>
                <a:gd name="adj4" fmla="val -17291"/>
                <a:gd name="adj5" fmla="val 323750"/>
                <a:gd name="adj6" fmla="val -18750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0" name=""/>
            <p:cNvCxnSpPr>
              <a:stCxn id="159" idx="0"/>
              <a:endCxn id="145" idx="1"/>
            </p:cNvCxnSpPr>
            <p:nvPr/>
          </p:nvCxnSpPr>
          <p:spPr>
            <a:xfrm>
              <a:off x="428760" y="3909600"/>
              <a:ext cx="334080" cy="108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r Defined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can write your own custom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ide what information will be passed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rgum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ide what value will be retur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ide how VBA will use the arguments to calculate the return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Determine employee bun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gument:  Amount of s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value: Bonus am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nus = 2% if Sales &gt; $50,000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User-defined Func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: Function Name(Argumen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 Sub – the name of the function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e repeated in th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onus(Sal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ales &gt; 50000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nus = Sales * 0.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l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nus =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nd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Custom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can be called from another s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Sales = Range(“B3”).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Bonus = Bonus(vSa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ge(“C3”).Value = vBon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can be used in the spreadsh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Function Generator [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 under “User-defined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cursor in [C3], writ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Bonus(B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how the results differ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VBAFunctions.xls in the hand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ustom Men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et to defin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i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yButton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s CommandBar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yButton = CommandBars("Worksheet Menu Bar")_ .Controls("Tools").Controls.Ad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Wi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yButt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Caption = "Say Hi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MoveBefore:=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OnAction = "SayHi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FaceId = 217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nd Wi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5119560" y="4343400"/>
            <a:ext cx="3824280" cy="414360"/>
          </a:xfrm>
          <a:prstGeom prst="borderCallout2">
            <a:avLst>
              <a:gd name="adj1" fmla="val 18750"/>
              <a:gd name="adj2" fmla="val -8333"/>
              <a:gd name="adj3" fmla="val 27587"/>
              <a:gd name="adj4" fmla="val -1990"/>
              <a:gd name="adj5" fmla="val 27587"/>
              <a:gd name="adj6" fmla="val -1805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tion: Words in menu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05520" y="4691160"/>
            <a:ext cx="3824280" cy="414360"/>
          </a:xfrm>
          <a:prstGeom prst="borderCallout2">
            <a:avLst>
              <a:gd name="adj1" fmla="val 18750"/>
              <a:gd name="adj2" fmla="val -8333"/>
              <a:gd name="adj3" fmla="val 27587"/>
              <a:gd name="adj4" fmla="val -1990"/>
              <a:gd name="adj5" fmla="val 27587"/>
              <a:gd name="adj6" fmla="val -2777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eBefore: Position in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05520" y="5072040"/>
            <a:ext cx="3824280" cy="414360"/>
          </a:xfrm>
          <a:prstGeom prst="borderCallout2">
            <a:avLst>
              <a:gd name="adj1" fmla="val 18750"/>
              <a:gd name="adj2" fmla="val -8333"/>
              <a:gd name="adj3" fmla="val 27587"/>
              <a:gd name="adj4" fmla="val -1990"/>
              <a:gd name="adj5" fmla="val 27587"/>
              <a:gd name="adj6" fmla="val -1843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Action: Macro to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5376960"/>
            <a:ext cx="3824280" cy="414360"/>
          </a:xfrm>
          <a:prstGeom prst="borderCallout2">
            <a:avLst>
              <a:gd name="adj1" fmla="val 18750"/>
              <a:gd name="adj2" fmla="val -8333"/>
              <a:gd name="adj3" fmla="val 27587"/>
              <a:gd name="adj4" fmla="val -1990"/>
              <a:gd name="adj5" fmla="val 27587"/>
              <a:gd name="adj6" fmla="val -3262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eID: Icon to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ving Menu I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the existing butt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ove identified i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or Eac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tem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mmandBars("Worksheet Menu Bar")_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Controls("Tools").Contr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tem.Caption = "Say Hi"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em.De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xit F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nd 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ex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tivating Custom Men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u code goes in a mac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cro must be run to make menu appear or disappe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WorkBook_Open to add men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WorkBook_BeforeClose to rem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e SayHi.xls in the hando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nge Ob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(Na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: text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3”,”Inpu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(“B3”).Offset(2,1) = Range(“C5”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 numbers can be cal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Number =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ge(“D4”).Offset(myNumber, -1).Sel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Results: Cursor ends up in cell  C7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fault Ob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C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Cell.Offset(0,1).Sel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wNum = ActiveCell.R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She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Sheet.Name = “Data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Sheet.Visible = VeryHid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.Cl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does this code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Cell.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ffse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Range(“B2”),-2) = [b4]/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6629400" cy="4149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352680" y="5791320"/>
            <a:ext cx="838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olling Ob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assignment statements to change objects or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effects, similar resul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ange(“F3”).Value = Range(“D3”).Value*15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ange (“F3”).Formula = “=D3*15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rst form enter a number – no updates!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form enters a formul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lle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she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heets(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heets(“Sheet2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um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umns(“C:D”).HorizontalAlignment = xlCen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ws(5).RowHeight = 19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 difference between Row and R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l Metho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rd macros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py, Pas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(“B3:D6”).Sel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.Co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d a Given Ce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, Goto, Spe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End}{Down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first column in the last r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ok-u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LookUp(value, table, col_num, clo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: item to fi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: range of data to 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orted by 1st colum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_num: which column has dat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: true or fa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: select nearest match – always fi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e: find exact, or return #N/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9T14:28:12Z</dcterms:created>
  <dc:creator>Ron Williams</dc:creator>
  <dc:description/>
  <dc:language>en-US</dc:language>
  <cp:lastModifiedBy>Ron Williams</cp:lastModifiedBy>
  <dcterms:modified xsi:type="dcterms:W3CDTF">2003-10-17T20:49:32Z</dcterms:modified>
  <cp:revision>13</cp:revision>
  <dc:subject/>
  <dc:title>VBA Programming for Excel</dc:title>
</cp:coreProperties>
</file>